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CF6-48B0-4505-90E7-543BDD5C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A43-F0B4-4416-B6DA-B9C5EF31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CE0-585B-4FD6-8948-3054D241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CFB-F1A1-4DD9-8292-21BECE01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8F3A-91D2-41F3-B517-02EFB537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2E09-069F-4644-A1A1-640071DB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F958-A34E-4C3B-9E46-EA6D7AAC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1C6B-7B92-4E73-B034-1E9320F7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6B51-6C22-422A-AAFA-0C623F90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3B43-0DE2-4B8D-863B-07D2DC61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3058-8B07-4B5E-BB42-AD783F48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F1C-3500-4B80-8596-CB169FE6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86A6-71AD-4267-A087-B2CC0E8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5FF4-40C9-4EBB-BDD1-D8BE6060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046B-9AAD-4A1E-925D-7752EAC7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A714-49C8-404E-8733-952CF10A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F88E-8B03-4BDF-830F-CA060D39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AE4-5834-42E2-A6BE-6F883E5C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F65-66CC-4733-8FF7-EA47003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87E-1950-4C85-A68D-F32DD4CE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D1A-BB57-46C3-8364-4E8D305E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26B-CD47-491F-8C7F-4551A75F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65C-20EE-41AA-BB52-C2DBC853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A96-0BD7-4150-85F7-818C1963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D5DB-ABB1-4A3D-B13F-86E951844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4AD9-01AF-4C96-9CEB-83661240A9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903240" y="1752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è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92320" y="175248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appar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9640" y="17524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am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8280" y="175248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ar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964520" y="3168720"/>
            <a:ext cx="43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mother is beauti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908000" y="316872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 mère est bel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914120" y="3168720"/>
            <a:ext cx="476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kitchen (en françai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10160" y="316872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re cuis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906200" y="3168720"/>
            <a:ext cx="30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bedroo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916640" y="3168720"/>
            <a:ext cx="49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urs chambres à couc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916640" y="316872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eautiful living ro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914120" y="3168720"/>
            <a:ext cx="43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 beau salon; (O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 belle salle de séjo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45720" y="316872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ld tre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904760" y="316872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 vieil arb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983600" y="3168720"/>
            <a:ext cx="38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moth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en frança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917360" y="3168720"/>
            <a:ext cx="52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w house is beautiful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918440" y="3168720"/>
            <a:ext cx="512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 vieille maison est bell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894680" y="31687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apartment (to a frien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1080" y="316872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n appar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955880" y="316872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apart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965240" y="3168720"/>
            <a:ext cx="32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n appar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7"/>
          <p:cNvSpPr/>
          <p:nvPr/>
        </p:nvSpPr>
        <p:spPr>
          <a:xfrm>
            <a:off x="2514600" y="2971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new apart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15200" y="3168720"/>
            <a:ext cx="46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n nouvel appart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907280" y="3168720"/>
            <a:ext cx="31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apart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909440" y="3168720"/>
            <a:ext cx="36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urs appart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900080" y="316872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 mè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922400" y="3168720"/>
            <a:ext cx="62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balcony overlooks the gard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990720" y="27432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 nouvel appartement donne sur le jard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911960" y="3168720"/>
            <a:ext cx="42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aunt and my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913400" y="3168720"/>
            <a:ext cx="426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 tante et mon o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908360" y="316872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beautiful au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905480" y="3168720"/>
            <a:ext cx="27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 belle ta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910160" y="3168720"/>
            <a:ext cx="38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handsome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930320" y="316872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 bel o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850760" y="316872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pretty cousi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909080" y="3168720"/>
            <a:ext cx="38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s belles cous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910880" y="3168720"/>
            <a:ext cx="39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 mothe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en françai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917360" y="3168720"/>
            <a:ext cx="40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adorable neph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910160" y="3168720"/>
            <a:ext cx="40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n neveu adorabl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908000" y="3168720"/>
            <a:ext cx="35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neighbor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905120" y="316872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re quarti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967760" y="3168720"/>
            <a:ext cx="51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beautiful neighborh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967400" y="316872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re beau quarti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912680" y="3168720"/>
            <a:ext cx="44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old subway s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917720" y="3168720"/>
            <a:ext cx="49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 vieille station de métr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906920" y="316872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old neighb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907640" y="316872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s vieux voisi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98640" y="316872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 mè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910160" y="3168720"/>
            <a:ext cx="396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new neighb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916640" y="3168720"/>
            <a:ext cx="54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urs nouveaux voisins (O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urs nouvelles voisi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3480" y="2438280"/>
            <a:ext cx="82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new apartment is on a beautiful street in an old neighborh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MacOS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37920" y="2766960"/>
            <a:ext cx="739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n nouvel appartement est su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e belle rue dans un vie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arti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913760" y="3168720"/>
            <a:ext cx="521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ur mother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en françai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907640" y="3168720"/>
            <a:ext cx="22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tre mè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6"/>
          <p:cNvSpPr/>
          <p:nvPr/>
        </p:nvSpPr>
        <p:spPr>
          <a:xfrm>
            <a:off x="2666880" y="3581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ir mothe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en françai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900080" y="316872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ur mè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23:57:52Z</dcterms:created>
  <dc:creator>SCPS</dc:creator>
  <dc:description/>
  <dc:language>en-US</dc:language>
  <cp:lastModifiedBy>John Chapman</cp:lastModifiedBy>
  <dcterms:modified xsi:type="dcterms:W3CDTF">2012-01-30T01:05:21Z</dcterms:modified>
  <cp:revision>15</cp:revision>
  <dc:subject/>
  <dc:title>Jeopardy</dc:title>
</cp:coreProperties>
</file>